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58.jpeg" ContentType="image/jpeg"/>
  <Override PartName="/ppt/media/image57.jpeg" ContentType="image/jpeg"/>
  <Override PartName="/ppt/media/image63.png" ContentType="image/png"/>
  <Override PartName="/ppt/media/image56.wmf" ContentType="image/x-wmf"/>
  <Override PartName="/ppt/media/image55.jpeg" ContentType="image/jpeg"/>
  <Override PartName="/ppt/media/image54.jpeg" ContentType="image/jpeg"/>
  <Override PartName="/ppt/media/image52.png" ContentType="image/png"/>
  <Override PartName="/ppt/media/image50.jpeg" ContentType="image/jpeg"/>
  <Override PartName="/ppt/media/image5.jpeg" ContentType="image/jpeg"/>
  <Override PartName="/ppt/media/image48.wmf" ContentType="image/x-wmf"/>
  <Override PartName="/ppt/media/image33.jpeg" ContentType="image/jpeg"/>
  <Override PartName="/ppt/media/image27.png" ContentType="image/png"/>
  <Override PartName="/ppt/media/image4.jpeg" ContentType="image/jpeg"/>
  <Override PartName="/ppt/media/image61.jpeg" ContentType="image/jpeg"/>
  <Override PartName="/ppt/media/image12.png" ContentType="image/png"/>
  <Override PartName="/ppt/media/image7.jpeg" ContentType="image/jpeg"/>
  <Override PartName="/ppt/media/image64.jpeg" ContentType="image/jpeg"/>
  <Override PartName="/ppt/media/image1.wmf" ContentType="image/x-wmf"/>
  <Override PartName="/ppt/media/image14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11.gif" ContentType="image/gif"/>
  <Override PartName="/ppt/media/image67.jpeg" ContentType="image/jpeg"/>
  <Override PartName="/ppt/media/image19.wmf" ContentType="image/x-wmf"/>
  <Override PartName="/ppt/media/image29.png" ContentType="image/png"/>
  <Override PartName="/ppt/media/image65.jpeg" ContentType="image/jpeg"/>
  <Override PartName="/ppt/media/image62.jpeg" ContentType="image/jpeg"/>
  <Override PartName="/ppt/media/image41.wmf" ContentType="image/x-wmf"/>
  <Override PartName="/ppt/media/image17.jpeg" ContentType="image/jpeg"/>
  <Override PartName="/ppt/media/image22.png" ContentType="image/png"/>
  <Override PartName="/ppt/media/image24.jpeg" ContentType="image/jpeg"/>
  <Override PartName="/ppt/media/image3.jpeg" ContentType="image/jpeg"/>
  <Override PartName="/ppt/media/image59.png" ContentType="image/png"/>
  <Override PartName="/ppt/media/image66.jpeg" ContentType="image/jpeg"/>
  <Override PartName="/ppt/media/image16.jpeg" ContentType="image/jpeg"/>
  <Override PartName="/ppt/media/image18.jpeg" ContentType="image/jpeg"/>
  <Override PartName="/ppt/media/image60.jpeg" ContentType="image/jpeg"/>
  <Override PartName="/ppt/media/image21.wmf" ContentType="image/x-wmf"/>
  <Override PartName="/ppt/media/image28.jpeg" ContentType="image/jpeg"/>
  <Override PartName="/ppt/media/image51.jpeg" ContentType="image/jpeg"/>
  <Override PartName="/ppt/media/image8.jpeg" ContentType="image/jpeg"/>
  <Override PartName="/ppt/media/image26.png" ContentType="image/png"/>
  <Override PartName="/ppt/media/image10.gif" ContentType="image/gif"/>
  <Override PartName="/ppt/media/image53.jpeg" ContentType="image/jpeg"/>
  <Override PartName="/ppt/media/image20.jpeg" ContentType="image/jpeg"/>
  <Override PartName="/ppt/media/image30.jpeg" ContentType="image/jpeg"/>
  <Override PartName="/ppt/media/image37.wmf" ContentType="image/x-wmf"/>
  <Override PartName="/ppt/media/image31.jpeg" ContentType="image/jpeg"/>
  <Override PartName="/ppt/media/image47.wmf" ContentType="image/x-wmf"/>
  <Override PartName="/ppt/media/image13.jpeg" ContentType="image/jpeg"/>
  <Override PartName="/ppt/media/image38.wmf" ContentType="image/x-wmf"/>
  <Override PartName="/ppt/media/image32.jpeg" ContentType="image/jpeg"/>
  <Override PartName="/ppt/media/image34.jpeg" ContentType="image/jpeg"/>
  <Override PartName="/ppt/media/image40.wmf" ContentType="image/x-wmf"/>
  <Override PartName="/ppt/media/image6.png" ContentType="image/png"/>
  <Override PartName="/ppt/media/image35.jpeg" ContentType="image/jpeg"/>
  <Override PartName="/ppt/media/image36.wmf" ContentType="image/x-wmf"/>
  <Override PartName="/ppt/media/image39.wmf" ContentType="image/x-wmf"/>
  <Override PartName="/ppt/media/image23.jpeg" ContentType="image/jpeg"/>
  <Override PartName="/ppt/media/image42.wmf" ContentType="image/x-wmf"/>
  <Override PartName="/ppt/media/image43.jpeg" ContentType="image/jpeg"/>
  <Override PartName="/ppt/media/image44.jpeg" ContentType="image/jpeg"/>
  <Override PartName="/ppt/media/image45.jpeg" ContentType="image/jpeg"/>
  <Override PartName="/ppt/media/image9.gif" ContentType="image/gif"/>
  <Override PartName="/ppt/media/image46.wmf" ContentType="image/x-wmf"/>
  <Override PartName="/ppt/media/image4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A63CC-A127-464E-8EC7-A463F863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628D-7C43-44E6-8EF1-1E1618FF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530-3694-4EF0-9EA2-261E2E3B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BBC3-18BA-4F06-A2E3-F657366D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776BB-9F81-4CE0-8E84-4B9BC102B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022F-3554-4EEC-B655-54E67A39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3519-CBEF-4609-A5CB-27ADB0F5C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7BC2-AABD-4D6B-8994-3E79BB46C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B558-0D2C-4300-8235-A702FD79A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4B13-F465-410D-8F35-B56A6761F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8653-E44D-46C3-A31C-38FA1DD3A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16FB-CF85-45CC-A1F3-E646963CC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6176-FA8C-4E0A-9834-6EFE1C7F9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5649-77F1-429B-83F6-806B1C225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BA5E-B66C-45FC-BDB1-2AA4FC338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D58A-685F-4FBA-8F47-68AE302C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F45-EF68-4368-BD68-F16F03E0D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0308-2033-4A33-A8B0-AB74C7CC6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01FD-DBAF-45EC-9AEA-AD7AC0D3D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967-0FDC-43F6-B174-F37F65DE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BF2D-DDF1-48D2-9252-FB92BD5C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964A-D8CC-4EF3-A57B-BF42C1DF7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CF10-330E-446C-B531-3A023D2A9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BE6F-85A0-4295-9521-8258C531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F42-C850-4765-97E2-AFBF47C2A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14B-78AF-4448-92C1-7EDA12232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6CB0-663E-4AC5-8040-183E9B93A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EEF0-B998-47D7-BCCF-8E3B7FA4B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E6E7-2696-451B-AACB-10716F5AB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157D-32C5-417D-9763-C054E397E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F11F-48AC-4DDF-90FA-3DB53848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865-9623-4127-A2DC-46176078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7125-FFB1-484E-961B-2C4B4E81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FAC3-009C-4A6C-A1FF-E01F4E8AB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E3E6-FFC3-4776-A49A-AFAC4692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2DA-3E03-42E3-94AD-35FBEF39B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4FF2-4CAE-4EA8-908C-AE4B1A3F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7B6-F61D-4226-BA69-18F7B1EC7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D7E8-2452-4A30-921B-2FA002DBA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8C8-609B-4DBD-815D-4C9C01421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BD46-A457-484E-A90B-4D58FE616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786-76F4-4CC6-A14D-4AC29DAC1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08B-CF57-45E3-BC4E-FFAE155A6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E32B-CA16-4A45-8972-7841A50B0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2277-06BA-4D07-996E-27B57BB0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49AE-2F88-45A0-938D-7218D7AD3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2861-1C43-4BFB-9840-4C576B29D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B84-1D73-49F3-8340-D8FE52F91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96A0-6AB8-4DDA-8913-7C5B66412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DAE2-6678-490D-9092-9661F6038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8EB-62CC-435B-8B2B-472A34C08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0EE4-C3F6-436A-91C7-1AE4C616A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4C0-8130-4779-BE0D-97B8C19052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5F89-4B8C-4B98-A3C8-101C47206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828E-E471-479E-9575-74159DD3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A27D-9C17-4CFB-AAC2-4C97F893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57F-46BF-46FC-8DC4-BE2B30198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D1D0-3238-45E4-A89B-9E46C75C9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2CCB-7874-475A-B8BC-39AC1DA21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0E5C-117E-4219-843D-A3826CC8B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BCE5-F88E-4D18-A6C0-1496CA291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5FC66-60C1-429A-9AB6-0B5250E36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3B11-32C1-4F84-9F41-E953E074C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840-F61D-4932-8525-0829A1CAA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7679-5929-45CE-874A-FEFF06AEF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F287-52DA-4451-A06A-3D3AB979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3197-302E-4E96-9256-3979819DB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2AC2-22C5-4EF4-A7B0-8E77AFD51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FE72-190D-4820-9584-D2B64CC33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6C0A-9437-45A4-B8D4-74421527F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22D5-CABA-4BA5-B3A1-BB2ADDEF3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3593-B5AC-4C60-A6C8-68B7C24B9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B6C6-E9F9-4E83-9243-0D673AAD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32F76-0816-42BA-BA43-947CCF98F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6421-6165-4499-BE7C-D438883A2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78D5-26AC-4420-9114-89DAC6614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597E-6AF7-4DF1-BE63-D7AE128E2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5C2D-D1A4-4B31-A76F-BA31BF878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FAFE-69E8-4D36-A589-E0E597E4F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13B0-05D4-41E6-96CE-B07E9A65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EC6-6443-458F-9382-6FC24D343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694D-FC92-4F76-A7E2-375389C39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D683-AF41-4C21-AF23-1C70E45C7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80A8-DECD-4AA1-AC2B-833DF715E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92AA-E1C7-42E2-95C4-EA2F36275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D009-FB4B-48B7-AB2B-A8E01E39F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1BB5-9FE7-4EDD-88BA-435F4281A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DE6A-9681-4142-8102-A28D0CA73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135D-5052-4195-A253-02226FED8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741-71C1-4A5A-BA5C-57B992840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640A-6DF2-4F3C-BA83-5E2F616A4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DFCE-58FE-4937-8280-B53C8944B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496C-16CA-4215-8B7F-B984404A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DBF0-34A2-4DC1-9E40-22EFB7122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0A42-BC65-41CE-8525-517521F48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9FC0-5A14-4CA2-8FEF-A6AB6103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26E-882E-4F06-AE81-EAC036723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71CE-98CB-4415-BB2F-DC32CACF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3E29-98A9-4B98-A041-A1AD8EC5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15F9-0DF1-4A54-9FD5-A33D253F8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1EFE-2CA6-4157-BC48-6FD5EFC45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8FD2-5138-4221-96E2-CB75697F6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EBC4-1C8B-4170-BA45-B3E145A8A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4291-3D16-4672-B1F5-4B3C206D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D30-C65C-4DF2-A263-B963225D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4D73-7ACB-4BD3-8C64-1F7D1339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427-2C54-46A1-AD96-09087B30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4685-1157-4CA4-A0EE-9DFFF494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2B6-4F93-4FAE-A146-14696A9F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D70-2A3A-4B32-84FE-0A71101A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D2C0-BFA6-41AE-8510-83AA4836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1BA9A-686B-44D1-A409-9ADF4262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D519E-B6DE-4A5A-9E0C-3BF23A62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8741-82C3-43CB-8208-CF88385B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4B7-D73B-47C4-B0A4-D96E536D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33FC-1B68-4CFD-B94A-D6510C22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E4F4-8CC4-4485-9816-75E3989A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58C7-20C8-4A64-855F-8E9AFCFA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3D56-1D64-47DF-AE56-02335AA3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2FD0-356F-4199-9059-AAB16A13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DC0-D660-4851-BF77-58868C1E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0A4-F3A0-4EA2-A850-A4D38B05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A02-C517-4307-A508-49BD7C00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3082-25C6-49D1-94F0-28CC7900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A0E-5D34-4519-B0D4-B2D09E91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99E-6830-48F9-A771-56B4AAE3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801-70E1-43D5-BFD2-5591954E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44E-90FC-4645-AC04-E2581C1D049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225-B40F-426D-8ED1-3BCDA230E3C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PES year in revie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Object 1030"/>
          <p:cNvGraphicFramePr/>
          <p:nvPr/>
        </p:nvGraphicFramePr>
        <p:xfrm>
          <a:off x="685800" y="2819520"/>
          <a:ext cx="347328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19520"/>
                    <a:ext cx="34732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AutoShape 1032"/>
          <p:cNvSpPr/>
          <p:nvPr/>
        </p:nvSpPr>
        <p:spPr>
          <a:xfrm>
            <a:off x="4648320" y="1600200"/>
            <a:ext cx="3352680" cy="2209680"/>
          </a:xfrm>
          <a:prstGeom prst="cloudCallout">
            <a:avLst>
              <a:gd name="adj1" fmla="val -57814"/>
              <a:gd name="adj2" fmla="val 47268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410080" y="19051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doni MT Black"/>
              </a:rPr>
              <a:t>Let’s all get a 5 on this year’s test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Ecosys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380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Levels of organization of mat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niver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sphere/biosph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co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mmunit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rganis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el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to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Sources of ai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Natural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Sulfur: Volcanoes, sea spray, microb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. Nitrogen oxides: lightening, forest fires, microb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Verdana"/>
              </a:rPr>
              <a:t>Anthropogenic (human caused)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Sulfur oxides: coal burning plants, industry, fossil fuel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. Nitrogen oxides: power plants, industrial fuel combustion, transpor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. Effect areas hundreds of miles from the source of emissions, generally not the whole glob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6" descr="catposition"/>
          <p:cNvPicPr/>
          <p:nvPr/>
        </p:nvPicPr>
        <p:blipFill>
          <a:blip r:embed="rId1"/>
          <a:stretch/>
        </p:blipFill>
        <p:spPr>
          <a:xfrm>
            <a:off x="5638680" y="1819440"/>
            <a:ext cx="3276720" cy="17031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Solutions: Reducing Emission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st way = Conservation, just use les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Cleaner burning gasoline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increased fuel efficiency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alternative modes of transportatio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decrease the number of miles driven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s in land use deci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talytic conver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1" name="Picture 5" descr="electriccar1a"/>
          <p:cNvPicPr/>
          <p:nvPr/>
        </p:nvPicPr>
        <p:blipFill>
          <a:blip r:embed="rId2"/>
          <a:stretch/>
        </p:blipFill>
        <p:spPr>
          <a:xfrm>
            <a:off x="6324480" y="3581280"/>
            <a:ext cx="24750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Output Contro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03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rubbers: exhaust fumes through a spray of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 containing lime (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a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. Coal washing to get rid of sulf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. Fluidized bed combustion (produces a waste ash that must be disposed o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Coal%20Scrubbers"/>
          <p:cNvPicPr/>
          <p:nvPr/>
        </p:nvPicPr>
        <p:blipFill>
          <a:blip r:embed="rId1"/>
          <a:stretch/>
        </p:blipFill>
        <p:spPr>
          <a:xfrm>
            <a:off x="5211720" y="1905120"/>
            <a:ext cx="34750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143000" y="25905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Plants and animals interacting with their abiotic environment.  Ecosystems exist in biom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Climate – ave temperature over tim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Weather – daily variations in temp and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Microclimate and Other Abiotic Facto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light intens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Soil ty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* topography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3" descr="ecomenu"/>
          <p:cNvPicPr/>
          <p:nvPr/>
        </p:nvPicPr>
        <p:blipFill>
          <a:blip r:embed="rId1"/>
          <a:stretch/>
        </p:blipFill>
        <p:spPr>
          <a:xfrm>
            <a:off x="4419720" y="304920"/>
            <a:ext cx="3695760" cy="2166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380880" y="83808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Trophic Relationshi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Food web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Trophic level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 producer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herbiv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primary carniv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4" descr="1124"/>
          <p:cNvPicPr/>
          <p:nvPr/>
        </p:nvPicPr>
        <p:blipFill>
          <a:blip r:embed="rId1"/>
          <a:stretch/>
        </p:blipFill>
        <p:spPr>
          <a:xfrm>
            <a:off x="4648320" y="2057400"/>
            <a:ext cx="37335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Biomass and Biomass Pyrami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All biomass gets its energy from the su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Only 10% of  energy from one trophic level moves to the next trophic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Energy released is high potential energy molecules (like glucose) then converted to low potential energy molecules (like carbon dioxid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concept of eating lower on the biomass pyrami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Poor Richard"/>
              </a:rPr>
              <a:t>Relationship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990720" y="25142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Mutu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* Flowers &amp; insec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Commensalis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Predator/pre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host paras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Compet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Poor Richar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Poor Richard"/>
              </a:rPr>
              <a:t>habitat vs. niche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AG00142_"/>
          <p:cNvPicPr/>
          <p:nvPr/>
        </p:nvPicPr>
        <p:blipFill>
          <a:blip r:embed="rId1"/>
          <a:stretch/>
        </p:blipFill>
        <p:spPr>
          <a:xfrm>
            <a:off x="6248520" y="228600"/>
            <a:ext cx="17064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Poor Richard"/>
              </a:rPr>
              <a:t>Limiting Facto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Temperature, light, oxygen,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carbon dioxide,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Optimum leve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Zones of str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Limits of Tole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Range of Toleran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Poor Richard"/>
              </a:rPr>
              <a:t>Synergistic effects – The interaction of two or more factors is greater than the sum of the effects when each acts alone. Example: pollution and diseas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4" descr="j0076206"/>
          <p:cNvPicPr/>
          <p:nvPr/>
        </p:nvPicPr>
        <p:blipFill>
          <a:blip r:embed="rId1"/>
          <a:stretch/>
        </p:blipFill>
        <p:spPr>
          <a:xfrm>
            <a:off x="6400800" y="8380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cosystems, how they 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523880" y="2590920"/>
            <a:ext cx="7391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ycle or D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matter is recycled through the lithosphere, hydrosphere, and atmosphe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hing is created nothing is destroy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stable ecosystems recycle matter and get energy from the s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ys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ergy is measured in calori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lorie – amount of heat needed to raise 1 gram of water 1 degree Celsiu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ilocalorie = 1,000 calori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aw of thermodynam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cannot be created nor destroyed, only change forms (light to chemic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Verdana"/>
              </a:rPr>
              <a:t>nd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law of thermodynam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ergy transformation increases disorder (entropy) of the universe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at is the lowest grade of energ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emistry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Atoms –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sic units of mat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lectr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t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utr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Chemical bonds -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w atoms are held togeth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Ion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</a:rPr>
              <a:t>Covale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Molecule/compound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two or more atoms bonded togeth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pH scal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Base/alkalin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ci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rganic Compoun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-C bonds and/or C-H bon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y can be natural or synthe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Natural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compounds that make up living system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Synthetic: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man-made compou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172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240" y="26668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how natural world work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nderstand how human systems interact with natural system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curately determine environmental proble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 and follow a sustainable relationship with natural wor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ery inefficient (Only 1% of the energy from the sun is us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lorophyll – absorbs light to drive photosynthesi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lants use glucose t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struct other molecul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ild their cell wa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ore 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urce of energ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AG00433_"/>
          <p:cNvPicPr/>
          <p:nvPr/>
        </p:nvPicPr>
        <p:blipFill>
          <a:blip r:embed="rId1"/>
          <a:stretch/>
        </p:blipFill>
        <p:spPr>
          <a:xfrm>
            <a:off x="6705720" y="457200"/>
            <a:ext cx="146340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0" name="Object 6"/>
          <p:cNvGraphicFramePr/>
          <p:nvPr/>
        </p:nvGraphicFramePr>
        <p:xfrm>
          <a:off x="6095880" y="3906720"/>
          <a:ext cx="2819520" cy="254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3906720"/>
                    <a:ext cx="281952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arbon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member the carbon cycle gam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hotosynthesis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oving fossil fuels (which took millions of years to form) to the atmosphere (in hundreds of years) is a major component of global warm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carbon fuels to CO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itrogen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in reserve in the atmospher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iving things must get N from ammonium (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 or nitrate (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 from the atmo must be fixed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nto ammonium or nit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hizobium (bacteria living in roots of legumes) fig 3-1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dustri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ightn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urning fossil fuel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hosphorus cyc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gas phase, only solid and liqui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-made fertilizers contain organic phosphat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ecause P is a limiting factor in aquatic systems, it leads to eutrophic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ain forest is very good at recycling P, except when we cut it down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80880" y="284040"/>
          <a:ext cx="8458200" cy="6353280"/>
        </p:xfrm>
        <a:graphic>
          <a:graphicData uri="http://schemas.openxmlformats.org/drawingml/2006/table">
            <a:tbl>
              <a:tblPr/>
              <a:tblGrid>
                <a:gridCol w="1235160"/>
                <a:gridCol w="1127160"/>
                <a:gridCol w="1676520"/>
                <a:gridCol w="1447560"/>
                <a:gridCol w="2971800"/>
              </a:tblGrid>
              <a:tr h="96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 nonliving reserv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in living reservo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 nonliving reservoi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uman-induced proble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hydrates (CH2O)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 all organic molecu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ate (CO3-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carbonate (HCO3-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o mineral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 warm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bon from fossil fuels underground are burned and released into the air as CO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o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m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teins and other N- containing organic molecul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moni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H4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3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trite NO2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troph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tilizers contain human-made nitrates that end up in th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-phorou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th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cks as PO4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no gas phas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N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pholipi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ydr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osph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4-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utrophi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rtilizers contain human-made phosphates that end up in th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tting down rainforest stops recycling of 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opulation and Succession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228600" y="2362320"/>
            <a:ext cx="8610480" cy="41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6 most abundant elements in living thing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not in ord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NCHO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p 8 elements in the earths crust  (in ord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 O, Si, Al, Fe (iron), Ca, Na (sodium), P, M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silly apes in college study past midn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iosphere II (remember ecocolumn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rpose: recreate conditions of Earth (Biosphere I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to understand our world 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space tra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 acres in Arizona, 4000 species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hu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problem: 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+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re absorbed by concr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ants and cockroaches took over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bio2-arial"/>
          <p:cNvPicPr/>
          <p:nvPr/>
        </p:nvPicPr>
        <p:blipFill>
          <a:blip r:embed="rId1"/>
          <a:stretch/>
        </p:blipFill>
        <p:spPr>
          <a:xfrm>
            <a:off x="6019920" y="2057400"/>
            <a:ext cx="2895480" cy="2048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site7"/>
          <p:cNvPicPr/>
          <p:nvPr/>
        </p:nvPicPr>
        <p:blipFill>
          <a:blip r:embed="rId2"/>
          <a:stretch/>
        </p:blipFill>
        <p:spPr>
          <a:xfrm>
            <a:off x="5867280" y="4343400"/>
            <a:ext cx="300996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ires in Ecosyste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aintain balance of species and energy in ecosystems over th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long ru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eneficial b/c provide nutrients for soi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e avoid natural fires, but the problems like Crown Fires- (not natural) kill the whole tre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988 Yellowstone fires changed climax ecosystems of white bark pine trees to huckle berries. Grizzlies eat both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4" descr="2000fires"/>
          <p:cNvPicPr/>
          <p:nvPr/>
        </p:nvPicPr>
        <p:blipFill>
          <a:blip r:embed="rId1"/>
          <a:stretch/>
        </p:blipFill>
        <p:spPr>
          <a:xfrm>
            <a:off x="2743200" y="4343400"/>
            <a:ext cx="37339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uccession - One species gradually replaced by another in an ecosystem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mary – new ecosystem where there were no living things before. Cooled lava, receded glacier, mud sl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ary- ecosystem used to be there. Fire, humans clear an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quatic – lakes taken over by terrestrial eco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max ecosystem- in balance only changes if major inter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4" descr="000_0044"/>
          <p:cNvPicPr/>
          <p:nvPr/>
        </p:nvPicPr>
        <p:blipFill>
          <a:blip r:embed="rId1"/>
          <a:stretch/>
        </p:blipFill>
        <p:spPr>
          <a:xfrm>
            <a:off x="5257800" y="1523880"/>
            <a:ext cx="33717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imary success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2" name="Picture 4" descr="100_0514"/>
          <p:cNvPicPr/>
          <p:nvPr/>
        </p:nvPicPr>
        <p:blipFill>
          <a:blip r:embed="rId1"/>
          <a:stretch/>
        </p:blipFill>
        <p:spPr>
          <a:xfrm>
            <a:off x="5099040" y="3008160"/>
            <a:ext cx="3584520" cy="28576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1523880" y="160020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create new soil for plants to gr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rst plants to come in are called pioneer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c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b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aster Isla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Picture 3" descr="[IMAGE]"/>
          <p:cNvPicPr/>
          <p:nvPr/>
        </p:nvPicPr>
        <p:blipFill>
          <a:blip r:embed="rId1"/>
          <a:stretch/>
        </p:blipFill>
        <p:spPr>
          <a:xfrm>
            <a:off x="5838840" y="1905120"/>
            <a:ext cx="315288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4"/>
          <p:cNvSpPr/>
          <p:nvPr/>
        </p:nvSpPr>
        <p:spPr>
          <a:xfrm>
            <a:off x="609480" y="1905120"/>
            <a:ext cx="541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ustainabil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A system/process can continue indefinitely without depleting resources u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no sacrifice to future generations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tewardsh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ring for something that does not belong to yo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ound Sci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the scientific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ain Topic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ergy flow and the biomass pyramid figs 3-13 and 3-2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 dynamics fig 4-2, 4-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iotic potential vs environmental resistance fig 4-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opulation equilibrium and balanced herbivory figs 4-5, 4-1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roduced species effects on ecosystems fig 4-6, 4-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Evolutionary Change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19320" y="2590920"/>
            <a:ext cx="769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cabulary that you need to kn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D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Chromoso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Ge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* alle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ntral Dogma: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NA- bluepr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NA- carp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tein- house, wo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Mut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utations are naturally random even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Normal vari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Chemical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UV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Radi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Genetic Trait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- only passed down if an organism reproduc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hy do species change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nvironmental resistance and biotic potentia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lective pressure on muta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peci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* creation of a new species based on reproductive isol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peciation (Galapagos Finches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3" descr="Fig22x-3"/>
          <p:cNvPicPr/>
          <p:nvPr/>
        </p:nvPicPr>
        <p:blipFill>
          <a:blip r:embed="rId1"/>
          <a:stretch/>
        </p:blipFill>
        <p:spPr>
          <a:xfrm>
            <a:off x="947880" y="1447920"/>
            <a:ext cx="804384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eological Context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(space and time for evolution)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late tectonic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eological time scale (fig. 5-2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mbrian explos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ective bree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tifici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751"/>
              </a:spcBef>
              <a:buClr>
                <a:srgbClr val="006666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tural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457200" y="1828800"/>
            <a:ext cx="4724280" cy="36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population tren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graphic trans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 structure diagra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vs. developing countr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4724280" y="1676520"/>
            <a:ext cx="41148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tility r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ban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94 UN conference in Cairo- program of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838080" y="301680"/>
            <a:ext cx="7845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Human Population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6" descr="BD04964_"/>
          <p:cNvPicPr/>
          <p:nvPr/>
        </p:nvPicPr>
        <p:blipFill>
          <a:blip r:embed="rId1"/>
          <a:stretch/>
        </p:blipFill>
        <p:spPr>
          <a:xfrm>
            <a:off x="4054320" y="4343400"/>
            <a:ext cx="2346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-76320" y="220968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de birth rate= number birth per 1000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ude death rate= number death per 1000 individu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ate = natural increase in population expressed as perc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years (If this number is negative, the population is shrinking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= birth – death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other factors affect population growth in a certain area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WordArt 3"/>
          <p:cNvSpPr txBox="1"/>
          <p:nvPr/>
        </p:nvSpPr>
        <p:spPr>
          <a:xfrm>
            <a:off x="2438280" y="685800"/>
            <a:ext cx="45435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Population Growth Rates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34760" y="-71640"/>
            <a:ext cx="8637480" cy="15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Arial"/>
              </a:rPr>
              <a:t>Population growth rates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3" name="Picture 4" descr="california"/>
          <p:cNvPicPr/>
          <p:nvPr/>
        </p:nvPicPr>
        <p:blipFill>
          <a:blip r:embed="rId1"/>
          <a:stretch/>
        </p:blipFill>
        <p:spPr>
          <a:xfrm>
            <a:off x="3649680" y="1600200"/>
            <a:ext cx="1836720" cy="18018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44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crease population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ecrease populatio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birth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death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immigra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   emigration (exit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 = (birth - death)+ (immigration-emig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immigration = migration of individuals into a population from another area or coun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migration = migration of individuals from a population bound for another count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762120" y="92376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= (birth - death)+ (immigration-emigr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3" descr="SO00513_"/>
          <p:cNvPicPr/>
          <p:nvPr/>
        </p:nvPicPr>
        <p:blipFill>
          <a:blip r:embed="rId1"/>
          <a:stretch/>
        </p:blipFill>
        <p:spPr>
          <a:xfrm>
            <a:off x="5029200" y="2057400"/>
            <a:ext cx="3753000" cy="29559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222200" y="4695840"/>
            <a:ext cx="656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               D               I               E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( 10/1000) – (5/1000) + (1/1000) – (10/1000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=(0.01-0.005) + (0.001 – 0.0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0.005 – 0.009 = -0.004 or –0.4% per y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139400" y="1828800"/>
            <a:ext cx="6621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population of 10,000 has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births (10 per 100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deaths (5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immigration (1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emigration (10 per 100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t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WordArt 6"/>
          <p:cNvSpPr txBox="1"/>
          <p:nvPr/>
        </p:nvSpPr>
        <p:spPr>
          <a:xfrm>
            <a:off x="2057400" y="0"/>
            <a:ext cx="544824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owth Rate Example</a:t>
            </a:r>
            <a:endParaRPr b="0" lang="en-US" sz="18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. Human population growth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487656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6.3 billion people current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st 25 yrs population grew by 2 bill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jected that population will be 10 billion by 2050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pop → increase need for resourc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FG06_001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914400" y="3808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owth rate is 1% and the population size is 10,000, how many years will it take to get to a population of 40,000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ulation doubling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WordArt 3"/>
          <p:cNvSpPr txBox="1"/>
          <p:nvPr/>
        </p:nvSpPr>
        <p:spPr>
          <a:xfrm rot="5400000">
            <a:off x="5695560" y="2800440"/>
            <a:ext cx="5562720" cy="1333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Double Time Exampl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061640" y="5638680"/>
            <a:ext cx="639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40 years, the population will be 40,000 peop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W YOUR WORK!!!!!!!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2437200" y="4648320"/>
            <a:ext cx="326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0 years)(2) =140 years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163600" y="40384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.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39560" y="335268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.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510560" y="2819520"/>
            <a:ext cx="51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70 years the population will be 20,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672200" y="222552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/rate =70/1% =70 years to dou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G06_016"/>
          <p:cNvPicPr/>
          <p:nvPr/>
        </p:nvPicPr>
        <p:blipFill>
          <a:blip r:embed="rId1"/>
          <a:stretch/>
        </p:blipFill>
        <p:spPr>
          <a:xfrm>
            <a:off x="1295280" y="1523880"/>
            <a:ext cx="6705720" cy="4470480"/>
          </a:xfrm>
          <a:prstGeom prst="rect">
            <a:avLst/>
          </a:prstGeom>
          <a:ln w="0">
            <a:noFill/>
          </a:ln>
        </p:spPr>
      </p:pic>
      <p:sp>
        <p:nvSpPr>
          <p:cNvPr id="209" name="WordArt 3"/>
          <p:cNvSpPr txBox="1"/>
          <p:nvPr/>
        </p:nvSpPr>
        <p:spPr>
          <a:xfrm>
            <a:off x="2438280" y="685800"/>
            <a:ext cx="4381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Demographic Transition</a:t>
            </a:r>
            <a:endParaRPr b="0" lang="en-US" sz="1800" spc="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600200" y="685800"/>
            <a:ext cx="7086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tom Line= as countries develop, first their death rate drops and then their birth rate d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the pha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medical c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tion               (births still high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II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birth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(of wom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mortality rate of inf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child lab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182736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ed Count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ada, U.S., Australia, Western Europe (Denmark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veloping Countr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atin America, China, Africa (Kenya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/5 of the world’s pop. Lives in absolute poverty, illiterate, lack clean H2O and don’t have enough fo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80% of world’s pop. Lives in developing co. and grow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Picture 3" descr="j0335112"/>
          <p:cNvPicPr/>
          <p:nvPr/>
        </p:nvPicPr>
        <p:blipFill>
          <a:blip r:embed="rId1"/>
          <a:stretch/>
        </p:blipFill>
        <p:spPr>
          <a:xfrm>
            <a:off x="7029360" y="2666880"/>
            <a:ext cx="1962360" cy="1981440"/>
          </a:xfrm>
          <a:prstGeom prst="rect">
            <a:avLst/>
          </a:prstGeom>
          <a:ln w="0">
            <a:noFill/>
          </a:ln>
        </p:spPr>
      </p:pic>
      <p:sp>
        <p:nvSpPr>
          <p:cNvPr id="213" name="WordArt 4"/>
          <p:cNvSpPr txBox="1"/>
          <p:nvPr/>
        </p:nvSpPr>
        <p:spPr>
          <a:xfrm>
            <a:off x="1371600" y="5335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eveloped vs. Developing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7617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otal fertility= avg. # of children born per wom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ed countries = 2.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ing countries = 2.6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ertility of 2.0= replacement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nder 2.0 = shrinking popul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ver 2.0 = growing po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ed countries = 2.1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developing countries = 2.6(or higher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WordArt 3"/>
          <p:cNvSpPr txBox="1"/>
          <p:nvPr/>
        </p:nvSpPr>
        <p:spPr>
          <a:xfrm>
            <a:off x="2438280" y="457200"/>
            <a:ext cx="41911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Fertility Rate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6" name="Picture 4" descr="baby"/>
          <p:cNvPicPr/>
          <p:nvPr/>
        </p:nvPicPr>
        <p:blipFill>
          <a:blip r:embed="rId1"/>
          <a:stretch/>
        </p:blipFill>
        <p:spPr>
          <a:xfrm>
            <a:off x="6781680" y="2657520"/>
            <a:ext cx="1809720" cy="2371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cial agency of the United N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s $$ from developed co. and loans $$ to developing co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this backfires by increasing 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sees all types of issues, not just environmental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. electricity, roads, new modern techn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WordArt 3"/>
          <p:cNvSpPr txBox="1"/>
          <p:nvPr/>
        </p:nvSpPr>
        <p:spPr>
          <a:xfrm>
            <a:off x="2743200" y="380880"/>
            <a:ext cx="35812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rld Bank</a:t>
            </a:r>
            <a:endParaRPr b="0" lang="en-US" sz="18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19" name="Picture 4" descr="bank"/>
          <p:cNvPicPr/>
          <p:nvPr/>
        </p:nvPicPr>
        <p:blipFill>
          <a:blip r:embed="rId1"/>
          <a:stretch/>
        </p:blipFill>
        <p:spPr>
          <a:xfrm>
            <a:off x="2895480" y="4724280"/>
            <a:ext cx="3295800" cy="1600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01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Soil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1" name="Picture 3" descr="FG08_004"/>
          <p:cNvPicPr/>
          <p:nvPr/>
        </p:nvPicPr>
        <p:blipFill>
          <a:blip r:embed="rId1"/>
          <a:stretch/>
        </p:blipFill>
        <p:spPr>
          <a:xfrm>
            <a:off x="1752480" y="1676520"/>
            <a:ext cx="739152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xtur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5053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nd 2.0-.02 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lt .02-.002 m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lay.002mm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≥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ome microscop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4" descr="textleaching"/>
          <p:cNvPicPr/>
          <p:nvPr/>
        </p:nvPicPr>
        <p:blipFill>
          <a:blip r:embed="rId1"/>
          <a:stretch/>
        </p:blipFill>
        <p:spPr>
          <a:xfrm>
            <a:off x="4552920" y="2103480"/>
            <a:ext cx="413064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8078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Times New Roman"/>
              </a:rPr>
              <a:t>LOAM: </a:t>
            </a:r>
            <a:br>
              <a:rPr sz="32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40%sand 40% silt 20% clay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  <a:ea typeface="Times New Roman"/>
              </a:rPr>
              <a:t>Loam is theoretically the ideal soil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26" name="Picture 3" descr="sc-scl-sl"/>
          <p:cNvPicPr/>
          <p:nvPr/>
        </p:nvPicPr>
        <p:blipFill>
          <a:blip r:embed="rId1"/>
          <a:stretch/>
        </p:blipFill>
        <p:spPr>
          <a:xfrm>
            <a:off x="2506680" y="2454120"/>
            <a:ext cx="419904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asses of Soi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609480" y="20574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ollisols- very fertile, dark, found in temperate grasslands, best agricultural soil, Deep A horiz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85800" y="3124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Oxisols- soil of tropical and subtropical rainforest layer of iron and Al oxides in B horizon, little O horiz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609480" y="4038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wcard Gothic"/>
              </a:rPr>
              <a:t>Alfisols- weathered forest soil, not deep, but developed OAE+B typical of most temperate forest biome. Need fertilizer for agri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5800" y="5410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idsols- dry lands + desert, lack of vegetation, lack of rai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unstructured vertically, irrigation leads to salinization b/c of high evapora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. Soil degrada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emand for food destroys the so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ros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inerals in soil are deplet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liniz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creased use of pestici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veruse of fresh wa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11430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gure 9-1 Earth’s water supply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3" descr="FG09_001"/>
          <p:cNvPicPr/>
          <p:nvPr/>
        </p:nvPicPr>
        <p:blipFill>
          <a:blip r:embed="rId1"/>
          <a:stretch/>
        </p:blipFill>
        <p:spPr>
          <a:xfrm>
            <a:off x="914400" y="914400"/>
            <a:ext cx="7848720" cy="52322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219320" y="3049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primary use for fresh water in U.S. is for agricult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n our homes, we use the most fresh water to wash, clean and flush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ypical person in an industrialized nation uses 700-1000 gallons per week!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uman effects on the </a:t>
            </a:r>
            <a:br>
              <a:rPr sz="3600"/>
            </a:b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ydrologic Cycle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8" name="Picture 3" descr="FG09_010"/>
          <p:cNvPicPr/>
          <p:nvPr/>
        </p:nvPicPr>
        <p:blipFill>
          <a:blip r:embed="rId1"/>
          <a:stretch/>
        </p:blipFill>
        <p:spPr>
          <a:xfrm>
            <a:off x="914400" y="14479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1064160" y="6035760"/>
            <a:ext cx="41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3 The Hydrologic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gure 9-5a Global air circul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3" descr="FG09_05A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55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1138320"/>
            <a:ext cx="7239240" cy="112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ain shadow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681120" y="-1743120"/>
            <a:ext cx="7783560" cy="5875560"/>
            <a:chOff x="681120" y="-1743120"/>
            <a:chExt cx="7783560" cy="5875560"/>
          </a:xfrm>
        </p:grpSpPr>
        <p:sp>
          <p:nvSpPr>
            <p:cNvPr id="245" name="Rectangle 5"/>
            <p:cNvSpPr/>
            <p:nvPr/>
          </p:nvSpPr>
          <p:spPr>
            <a:xfrm>
              <a:off x="681120" y="-1743120"/>
              <a:ext cx="7783560" cy="58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681120" y="-1743120"/>
              <a:ext cx="778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7" name="AutoShape 7"/>
          <p:cNvSpPr/>
          <p:nvPr/>
        </p:nvSpPr>
        <p:spPr>
          <a:xfrm>
            <a:off x="1150920" y="40291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8" name="Group 8"/>
          <p:cNvGrpSpPr/>
          <p:nvPr/>
        </p:nvGrpSpPr>
        <p:grpSpPr>
          <a:xfrm>
            <a:off x="681120" y="-1743120"/>
            <a:ext cx="7783560" cy="5875560"/>
            <a:chOff x="681120" y="-1743120"/>
            <a:chExt cx="7783560" cy="5875560"/>
          </a:xfrm>
        </p:grpSpPr>
        <p:sp>
          <p:nvSpPr>
            <p:cNvPr id="249" name="Rectangle 9"/>
            <p:cNvSpPr/>
            <p:nvPr/>
          </p:nvSpPr>
          <p:spPr>
            <a:xfrm>
              <a:off x="681120" y="-1743120"/>
              <a:ext cx="7783560" cy="587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681120" y="-1743120"/>
              <a:ext cx="778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1" name="AutoShape 11"/>
          <p:cNvSpPr/>
          <p:nvPr/>
        </p:nvSpPr>
        <p:spPr>
          <a:xfrm>
            <a:off x="1150920" y="40291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12" descr="FG09_006"/>
          <p:cNvPicPr/>
          <p:nvPr/>
        </p:nvPicPr>
        <p:blipFill>
          <a:blip r:embed="rId1"/>
          <a:stretch/>
        </p:blipFill>
        <p:spPr>
          <a:xfrm>
            <a:off x="609480" y="7873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3"/>
          <p:cNvSpPr/>
          <p:nvPr/>
        </p:nvSpPr>
        <p:spPr>
          <a:xfrm>
            <a:off x="1965600" y="613728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6 Rain shad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he Ogallala Aquifer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5" name="Picture 3" descr="FG09_016"/>
          <p:cNvPicPr/>
          <p:nvPr/>
        </p:nvPicPr>
        <p:blipFill>
          <a:blip r:embed="rId1"/>
          <a:srcRect l="0" t="0" r="1200" b="1800"/>
          <a:stretch/>
        </p:blipFill>
        <p:spPr>
          <a:xfrm>
            <a:off x="990720" y="1371600"/>
            <a:ext cx="6775200" cy="448956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4"/>
          <p:cNvSpPr/>
          <p:nvPr/>
        </p:nvSpPr>
        <p:spPr>
          <a:xfrm>
            <a:off x="1899720" y="57913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9-16 Exploitation of an aquif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Mono Lak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7313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cellent example of human interference with the water supp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water in the lake was diverted from the lake to the city of Los Angeles. It became a salt bed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↑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Salt concentration due to evapor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6666"/>
                </a:solidFill>
                <a:uFillTx/>
                <a:latin typeface="Verdana"/>
                <a:ea typeface="Times New Roman"/>
              </a:rPr>
              <a:t>Three Gorges Dam in Chin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China needs to meet the growing demand for ener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Huge environmental impac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Hundreds of thousands of people will be displaced (not to mention the ecosystems which will be flooded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Genetically altered food, Irish Potato Fami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3657240"/>
            <a:ext cx="3124440" cy="2590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e9dfc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empus Sans ITC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empus Sans ITC"/>
              </a:rPr>
              <a:t>So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Eros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Loss of fertil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Saliniz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Waterlogg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SzPct val="70000"/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empus Sans ITC"/>
              </a:rPr>
              <a:t>Desertific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267080" y="3200400"/>
            <a:ext cx="4572000" cy="33688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d8f7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Aquifer deple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Increased runoff and flooding from land cleared to grow cr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Fish kills from pesticide runoff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Surface and groundwater pollution from pesticides and fertiliz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ver fertilization of lakes &gt;&gt; eutroph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1371600" y="1538280"/>
            <a:ext cx="5410080" cy="12826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af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Greenhouse gas emissions from fossil fu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Other air pollutants from fossil fue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mpus Sans ITC"/>
              </a:rPr>
              <a:t>Pollutions from pesticide spray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066680" y="2286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Food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empus Sans ITC"/>
              </a:rPr>
              <a:t>Major Environmental Effects of Food Produc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3581280"/>
          </a:xfrm>
          <a:prstGeom prst="rect">
            <a:avLst/>
          </a:prstGeom>
          <a:gradFill rotWithShape="0">
            <a:gsLst>
              <a:gs pos="0">
                <a:srgbClr val="f0f8f8"/>
              </a:gs>
              <a:gs pos="100000">
                <a:srgbClr val="008080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empus Sans ITC"/>
              </a:rPr>
              <a:t>Biodiversity Los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Loss and degradation of habitat from clearing grasslands and forests and draining wetland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Fish kills from pesticide runof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Killing of wild predators to protect live stoc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empus Sans ITC"/>
              </a:rPr>
              <a:t>Loss of genetic diversity from replacing thousands of wild crop strains with a few monoculture strai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5257800" y="2057400"/>
            <a:ext cx="3505320" cy="38988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fff3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empus Sans ITC"/>
              </a:rPr>
              <a:t>Human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Nitrates in drinking wa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Pesticide residues in drinking water, food, and 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empus Sans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empus Sans ITC"/>
              </a:rPr>
              <a:t>Contamination of drinking and swimming water with disease organisms from livestock was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The Green Revo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eliminate hunger by improving crop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ement to increase yields by us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w crop cultiva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rrig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ertilize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esticid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chanizatio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d not eliminate fam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pulation still increas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crease cost of produc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n increased negative environmental impa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dn’t work for everyo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. Global Atmospheric Chang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lobal Warm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produced from fossil fuel burning acts like a blanket around the earth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lants take 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out of the atmosphere through photosynthesi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6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6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=&gt; 6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+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zone deple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hemicals released from the surface of the earth destroy our ozone shiel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tratospheric ozone, no protection from the UV rays of the sun.    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tection of Biodiversity and Ecosyste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0" name="Picture 4" descr="AN02165_"/>
          <p:cNvPicPr/>
          <p:nvPr/>
        </p:nvPicPr>
        <p:blipFill>
          <a:blip r:embed="rId1"/>
          <a:stretch/>
        </p:blipFill>
        <p:spPr>
          <a:xfrm>
            <a:off x="6477120" y="604800"/>
            <a:ext cx="1941480" cy="919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1143000" y="2666880"/>
            <a:ext cx="7156440" cy="34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Threaten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if the trend continues, the species will be endanger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ndanger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if the trend continues, the species will go extinc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rmaceuticals and native plants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pproximately 25% of  drugs used as medicines come from natural plant sourc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Exxon Valdez Oil Spill (1989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300,000 birds died as a result of that particular oil spill. The area, Prince William Sound, is still recovering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Know Specific Details about…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se Endangered animals (and check Barron’s examples)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ld Turkey – a success s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hooping Crane- Eggs raised by sandhill cranes led to problems, but the efforts proved successful overall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regrine Falcon- DD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otted Owl- deforest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312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sh living in George’s Bank (off New England)-The marketable fish were over fished and other species took over. An example of poor management of fisheri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ndocrine Disrup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8960" y="1752480"/>
            <a:ext cx="66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terfere with normal hormone ac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interfere with developmen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e often connected to cancer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interfere with sexual activity (alligators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re found in plastics and some pestici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190760" y="16765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al-several (400) hundred yea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4" descr="j0214914"/>
          <p:cNvPicPr/>
          <p:nvPr/>
        </p:nvPicPr>
        <p:blipFill>
          <a:blip r:embed="rId1"/>
          <a:stretch/>
        </p:blipFill>
        <p:spPr>
          <a:xfrm>
            <a:off x="533520" y="2446200"/>
            <a:ext cx="3479760" cy="304020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4191120" y="48769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il- about a decade until supplies pea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4191120" y="3352680"/>
            <a:ext cx="4572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Gas – at least a 50 year supply in the United Sta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295280" y="838080"/>
            <a:ext cx="6172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ossil Fuel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xxon Valdez, Drilling in ANW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mportant energy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rief history of ener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700-1800 Fire wo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00-1920 Co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	</a:t>
            </a:r>
            <a:r>
              <a:rPr b="0" lang="en-US" sz="2500" spc="-1" strike="noStrike">
                <a:solidFill>
                  <a:srgbClr val="33cccc"/>
                </a:solidFill>
                <a:latin typeface="Verdana"/>
              </a:rPr>
              <a:t>*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50- now crude oi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 of crude oil” = with drawing it from reserv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PEC (pg 319) organization of petroleum exporting countries (Mid-east countries mainl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Energy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 get 50% of our crude oil from foreign source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aska pipeline built to help increase production of domestic crude oi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s of coal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eat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not coal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Lignit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brown coal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Bituminous coal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soft coal with high sulfur)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thracit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(hard coal with low sulfur)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il: The Most Important Fossil Fuel in the American Econom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local ecosystems damage possi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oil spills cause local and regional ecosystem damag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photochemical smog, particulates, acid precipitation, carbon dioxid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BD10421_"/>
          <p:cNvPicPr/>
          <p:nvPr/>
        </p:nvPicPr>
        <p:blipFill>
          <a:blip r:embed="rId1"/>
          <a:stretch/>
        </p:blipFill>
        <p:spPr>
          <a:xfrm>
            <a:off x="6324480" y="4495680"/>
            <a:ext cx="2149560" cy="19843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06976_"/>
          <p:cNvPicPr/>
          <p:nvPr/>
        </p:nvPicPr>
        <p:blipFill>
          <a:blip r:embed="rId2"/>
          <a:stretch/>
        </p:blipFill>
        <p:spPr>
          <a:xfrm>
            <a:off x="5867280" y="1752480"/>
            <a:ext cx="30592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ecosystem damage, reclamation difficult, acid mine runoff, mine tailings, erosion, black lung, rad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energy intensive because of weight and number of train cars need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fossil fuel with largest source of carbon dioxide and greatest quantity of contaminants, large volume of waste, acid precipit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j0286871"/>
          <p:cNvPicPr/>
          <p:nvPr/>
        </p:nvPicPr>
        <p:blipFill>
          <a:blip r:embed="rId1"/>
          <a:stretch/>
        </p:blipFill>
        <p:spPr>
          <a:xfrm>
            <a:off x="6324480" y="228600"/>
            <a:ext cx="1924200" cy="1981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 txBox="1"/>
          <p:nvPr/>
        </p:nvSpPr>
        <p:spPr>
          <a:xfrm>
            <a:off x="5102280" y="3960720"/>
            <a:ext cx="35812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atural G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5334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nvironmental Consequence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duction: local ecosystem damage possible if oil or coal is part of the deposi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ransport: can be explosiv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se: produces the least air pollutants of all the fossil fue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Picture 4" descr="j0233393"/>
          <p:cNvPicPr/>
          <p:nvPr/>
        </p:nvPicPr>
        <p:blipFill>
          <a:blip r:embed="rId1"/>
          <a:stretch/>
        </p:blipFill>
        <p:spPr>
          <a:xfrm>
            <a:off x="5486400" y="2602080"/>
            <a:ext cx="3149640" cy="349380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5"/>
          <p:cNvSpPr/>
          <p:nvPr/>
        </p:nvSpPr>
        <p:spPr>
          <a:xfrm>
            <a:off x="685800" y="1111320"/>
            <a:ext cx="815328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ly a transition fuel between fossil fu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alternative energy sour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lectric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98" name="Picture 3" descr="IN00233_"/>
          <p:cNvPicPr/>
          <p:nvPr/>
        </p:nvPicPr>
        <p:blipFill>
          <a:blip r:embed="rId1"/>
          <a:stretch/>
        </p:blipFill>
        <p:spPr>
          <a:xfrm>
            <a:off x="6373800" y="152280"/>
            <a:ext cx="2541600" cy="188748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"/>
          <p:cNvSpPr/>
          <p:nvPr/>
        </p:nvSpPr>
        <p:spPr>
          <a:xfrm>
            <a:off x="457200" y="1981080"/>
            <a:ext cx="84582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ity is a secondary energy source because it relies on another energy source to create the electricit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production of electricity-boil water to produce steam to turn turbines to generate electron flow through a w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primary sources for electrical pro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% from nucl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7% from co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, geothermal, </a:t>
            </a:r>
            <a:r>
              <a:rPr b="0" lang="en-US" sz="2400" spc="-1" strike="noStrike">
                <a:solidFill>
                  <a:srgbClr val="99cccc"/>
                </a:solidFill>
                <a:latin typeface="Times New Roman"/>
              </a:rPr>
              <a:t>solar, wind, hydroelectric (no boiling water required for these sourc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electricity a clean energy sourc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. Loss of Biodiversit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Habitat destruction leads to a loss of many species starting with the pla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exact # of species lost is unknown because not all species are identifie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ong ecosystems need biodiversit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959-1980   25% of all prescription drugs from natural resourc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ild species keep domestic species vigorou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562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s: No 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emissions, no particulate emiss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562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s: Radiation can lead to damaged DNA, costs, radioactive waste, thermal poll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ally- the splitting of uranium’s nucleus gives off heat that can be used to boil water and turn a turbo generator to create electricit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624"/>
              </a:spcBef>
              <a:buClr>
                <a:srgbClr val="006666"/>
              </a:buClr>
              <a:buSzPct val="70000"/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turally occurring Uranium is mine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156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uclear Pow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Nuclear important fac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usion- the combination of 2 atoms to form a larger a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ssion- splitting an at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uclear Regulatory Commission is the US governmental Agency that regulates nuclear power plant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adioisotope= unstable radioactive isotop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Uranium 235 has 92 protons and 143 neutrons. It is radioactive and used as fuel in nuclear reacto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hen U235 is hit by a neutron, it is split (fission) into two smaller elements such as Kr and Ba plus three neutrons which sustain the chain reactio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ost (99.3%) of the naturally occurring uranium is U238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or a nuclear reactor, this must be purified to 4% U235 and 96% U238. (very expensiv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FG14_008"/>
          <p:cNvPicPr/>
          <p:nvPr/>
        </p:nvPicPr>
        <p:blipFill>
          <a:blip r:embed="rId1"/>
          <a:stretch/>
        </p:blipFill>
        <p:spPr>
          <a:xfrm>
            <a:off x="4038480" y="2286000"/>
            <a:ext cx="5334120" cy="355608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. Water moderator: slows down neutron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. Neutron-absorbing material- control ro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. Fuel Rods- approximately one third replaced each ye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. Heat transfer syst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. Cooling syst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. Redundant safety system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. How does a Power Plant Operate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yucca"/>
          <p:cNvPicPr/>
          <p:nvPr/>
        </p:nvPicPr>
        <p:blipFill>
          <a:blip r:embed="rId1"/>
          <a:stretch/>
        </p:blipFill>
        <p:spPr>
          <a:xfrm>
            <a:off x="3809880" y="1600200"/>
            <a:ext cx="5257800" cy="46404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ste Dispos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3657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fuel rods are still in cooling ponds at commercial nuclear facil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posed site for disposal - Yucca Mountain in SE Nevad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cerns: Geological active area, Intrusion of water table, distances for wastes travel, radioactive decay and half-liv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werplant"/>
          <p:cNvPicPr/>
          <p:nvPr/>
        </p:nvPicPr>
        <p:blipFill>
          <a:blip r:embed="rId1"/>
          <a:stretch/>
        </p:blipFill>
        <p:spPr>
          <a:xfrm>
            <a:off x="5486400" y="228600"/>
            <a:ext cx="3394080" cy="253692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Accid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8120" y="1752480"/>
            <a:ext cx="7313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ernobyl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/26/86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krain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lete meltdow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ree Mile Island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/28/79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ennsylvania (Harrisburg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rtial meltdown, no one known to be hur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Renewable Energy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7" name="Picture 3" descr="IN00319_"/>
          <p:cNvPicPr/>
          <p:nvPr/>
        </p:nvPicPr>
        <p:blipFill>
          <a:blip r:embed="rId1"/>
          <a:stretch/>
        </p:blipFill>
        <p:spPr>
          <a:xfrm>
            <a:off x="3200400" y="2705040"/>
            <a:ext cx="3962520" cy="1486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" descr="IN01108_"/>
          <p:cNvPicPr/>
          <p:nvPr/>
        </p:nvPicPr>
        <p:blipFill>
          <a:blip r:embed="rId2"/>
          <a:stretch/>
        </p:blipFill>
        <p:spPr>
          <a:xfrm>
            <a:off x="609480" y="3581280"/>
            <a:ext cx="2216160" cy="288288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5"/>
          <p:cNvSpPr/>
          <p:nvPr/>
        </p:nvSpPr>
        <p:spPr>
          <a:xfrm>
            <a:off x="1066680" y="1371600"/>
            <a:ext cx="7162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nlight, wind, falling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, geotherm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fossil fuels, not nucle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Picture 6" descr="NA00842_"/>
          <p:cNvPicPr/>
          <p:nvPr/>
        </p:nvPicPr>
        <p:blipFill>
          <a:blip r:embed="rId3"/>
          <a:stretch/>
        </p:blipFill>
        <p:spPr>
          <a:xfrm>
            <a:off x="6705720" y="4419720"/>
            <a:ext cx="2238120" cy="22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Indirect Solar pow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ow does it affect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in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power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rewood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ydro carbon fuel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uclear and Geothermal are not indirect solar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olar Energ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73134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Passive sol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arge south-facing windows, heavy drapes to trap heat at night, interior bricks to trap he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ade windows in summ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ven though back up systems are required, and solar heating may only lessen the need for heating oil a few %, it will help us adapt to diminishing oil suppli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Active sol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hotovoltaic (PV) panels can be used to convert the energy from the sun into electricity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lectrons from the silicon in the PV panel are “pushed” through a wire by photons from the sun creating an electric curren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Risks and Pest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orneo (DDT), MTB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1066680" y="1676520"/>
            <a:ext cx="7086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zard - Anything that caus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jury, disease, or death to hu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mage to proper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truction of the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ltural hazar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- a risk that a person chooses to engage 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isk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bability of suffering (1, 2, or 3) as a result of a haz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ercep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people think the risks 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Picture 7" descr="MCSY00732_0000[1]"/>
          <p:cNvPicPr/>
          <p:nvPr/>
        </p:nvPicPr>
        <p:blipFill>
          <a:blip r:embed="rId1"/>
          <a:stretch/>
        </p:blipFill>
        <p:spPr>
          <a:xfrm>
            <a:off x="6781680" y="4952880"/>
            <a:ext cx="182880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Photo: Rachel Carson"/>
          <p:cNvPicPr/>
          <p:nvPr/>
        </p:nvPicPr>
        <p:blipFill>
          <a:blip r:embed="rId1"/>
          <a:stretch/>
        </p:blipFill>
        <p:spPr>
          <a:xfrm>
            <a:off x="6781680" y="152280"/>
            <a:ext cx="207324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ook Cover Image: Silent Spring"/>
          <p:cNvPicPr/>
          <p:nvPr/>
        </p:nvPicPr>
        <p:blipFill>
          <a:blip r:embed="rId2"/>
          <a:stretch/>
        </p:blipFill>
        <p:spPr>
          <a:xfrm>
            <a:off x="457200" y="380880"/>
            <a:ext cx="1800360" cy="2590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Birdnest RachelCarson.org Logo"/>
          <p:cNvPicPr/>
          <p:nvPr/>
        </p:nvPicPr>
        <p:blipFill>
          <a:blip r:embed="rId3"/>
          <a:stretch/>
        </p:blipFill>
        <p:spPr>
          <a:xfrm>
            <a:off x="3505320" y="700200"/>
            <a:ext cx="2133360" cy="2119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457200" y="3124080"/>
            <a:ext cx="845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hel Carson was a scientist who wrot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lent Sp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196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ddressed the growing use of pesticides (DDT) and their unpredicted effects on song bird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users of pesticides did not know that the poisons used to kill insects would accumulate in other living things and kill them too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ACCU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igarette Smok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ading cause of cancer in U.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an cause cancer, lung disease, a bigger risk of death in addition with other types of air pollu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ighest health risk in U.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4" descr="gogh"/>
          <p:cNvPicPr/>
          <p:nvPr/>
        </p:nvPicPr>
        <p:blipFill>
          <a:blip r:embed="rId1"/>
          <a:stretch/>
        </p:blipFill>
        <p:spPr>
          <a:xfrm>
            <a:off x="6392880" y="3276720"/>
            <a:ext cx="23702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Insecticides/Pesticid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Integrated pest management includes: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adjusting environmental condition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hemical pesticid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disease resistant varietie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crop ro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iological control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Insecticides kills plants, mammals, fish, bird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  <a:ea typeface="Times New Roman"/>
              </a:rPr>
              <a:t>A broad spectrum pesticide is effective towards many types of pest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228240" y="3123720"/>
            <a:ext cx="4876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accumulates in fat body tissues of animal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was not used for handling weed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DDT is, persistent, synthetic organic compound and a subject to biomagnifications in food chai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Picture 4" descr="orionddt"/>
          <p:cNvPicPr/>
          <p:nvPr/>
        </p:nvPicPr>
        <p:blipFill>
          <a:blip r:embed="rId1"/>
          <a:stretch/>
        </p:blipFill>
        <p:spPr>
          <a:xfrm>
            <a:off x="1546200" y="76320"/>
            <a:ext cx="218772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DDT-Household-Pests-USDA-Mar47a"/>
          <p:cNvPicPr/>
          <p:nvPr/>
        </p:nvPicPr>
        <p:blipFill>
          <a:blip r:embed="rId2"/>
          <a:stretch/>
        </p:blipFill>
        <p:spPr>
          <a:xfrm>
            <a:off x="5119560" y="915840"/>
            <a:ext cx="3567240" cy="56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Times New Roman"/>
              </a:rPr>
              <a:t>Diseases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Lyme disease can be processed to humans through a bite from an infected tick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Mosquitoes causes Malaria, the vector for Plasmodium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protozoan of the genus Plasmodium is the causative agent of malar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8" name="Picture 4" descr="denuge-mosquito"/>
          <p:cNvPicPr/>
          <p:nvPr/>
        </p:nvPicPr>
        <p:blipFill>
          <a:blip r:embed="rId1"/>
          <a:stretch/>
        </p:blipFill>
        <p:spPr>
          <a:xfrm>
            <a:off x="5562720" y="4340160"/>
            <a:ext cx="1995480" cy="18320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tick"/>
          <p:cNvPicPr/>
          <p:nvPr/>
        </p:nvPicPr>
        <p:blipFill>
          <a:blip r:embed="rId2"/>
          <a:stretch/>
        </p:blipFill>
        <p:spPr>
          <a:xfrm>
            <a:off x="6629400" y="1828800"/>
            <a:ext cx="1523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dirty_cu"/>
          <p:cNvPicPr/>
          <p:nvPr/>
        </p:nvPicPr>
        <p:blipFill>
          <a:blip r:embed="rId1"/>
          <a:stretch/>
        </p:blipFill>
        <p:spPr>
          <a:xfrm>
            <a:off x="168120" y="46080"/>
            <a:ext cx="3870360" cy="257976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Diseases cont’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2421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Lack of access to safe drinking water is a major cause of disease transmission in developing countries.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Epidemiology is the study of the presence, distribution and control of a diseases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bid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incidence of disease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tality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Times New Roman"/>
              </a:rPr>
              <a:t> is the incidence of death in a population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Wate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wage treatment is a common prac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1970’s many cities were still dumping raw sewage into water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1972, the Clean water act provided funding for upgrading sewage treatment pl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rrently water ways are the much be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°, 2° use preliminary but no m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for sewage contamination in drinking H2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ecal Coliform t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wage Treat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789120" y="1600200"/>
            <a:ext cx="6373800" cy="39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aw sewage (99% H2O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liminary Treatment- allow grit to sett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° separating Raw Sludge from H2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2° AKA Biological Treatment- bacteria feeds on the organic materia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Trickling filters contain bacteria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Times New Roman"/>
              </a:rPr>
              <a:t>  remove raw sludge from the H2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w Slud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a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ain heavy met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it does it needs 3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° treatment, to remove the toxic chemic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Picture 6" descr="NA01606_"/>
          <p:cNvPicPr/>
          <p:nvPr/>
        </p:nvPicPr>
        <p:blipFill>
          <a:blip r:embed="rId1"/>
          <a:stretch/>
        </p:blipFill>
        <p:spPr>
          <a:xfrm>
            <a:off x="6553080" y="2666880"/>
            <a:ext cx="23623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ome Septic System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not use Chlori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Do use settling tank to settle organic soli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ets waste water percolate into the soil bacterial decomposi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0" name="Picture 6" descr="FG18_016"/>
          <p:cNvPicPr/>
          <p:nvPr/>
        </p:nvPicPr>
        <p:blipFill>
          <a:blip r:embed="rId1"/>
          <a:stretch/>
        </p:blipFill>
        <p:spPr>
          <a:xfrm>
            <a:off x="4800600" y="393696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unicipal Solid Was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360" y="1827000"/>
            <a:ext cx="837900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0,000,000 tons of municipal solid waste (MSW) are disposed of annually in the United Stat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of that waste is pap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y-five percent of MSW is disposed of in landfi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% of MSW is combusted, mostly in waste-to-energy (WTE) combustion facilities. What are the advantages and disadvantages of WTE combus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est solution to solid waste problems is to reduce waste at its sourc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han 75% of MSW is recyclable. What role is recycling playing in waste management, and how is recycling best promot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ch more can be done to move MSW management in a more sustainable direction. What are some recommendations to improve MSW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zardous Wast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9144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Halogenated hydrocarb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457200" y="228600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rganic compounds with a halogen (bromine, iodine, ect.) replacing a hydrog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as pesticid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Used to make plasti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sistant to biodegrad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Picture 6" descr="kuva3"/>
          <p:cNvPicPr/>
          <p:nvPr/>
        </p:nvPicPr>
        <p:blipFill>
          <a:blip r:embed="rId1"/>
          <a:stretch/>
        </p:blipFill>
        <p:spPr>
          <a:xfrm>
            <a:off x="6296040" y="3200400"/>
            <a:ext cx="2543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More Cool Environmentalis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827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ohn Muir – Sierra Club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sel Adams – Photography (Yosemi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do Leopold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Sand County Almanac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Henry David Thoreau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Wald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arrett Hardin –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Tragedy of the Comm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7" descr=""/>
          <p:cNvPicPr/>
          <p:nvPr/>
        </p:nvPicPr>
        <p:blipFill>
          <a:blip r:embed="rId1"/>
          <a:stretch/>
        </p:blipFill>
        <p:spPr>
          <a:xfrm>
            <a:off x="5715000" y="4343400"/>
            <a:ext cx="2666880" cy="21589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4"/>
          <p:cNvSpPr/>
          <p:nvPr/>
        </p:nvSpPr>
        <p:spPr>
          <a:xfrm>
            <a:off x="9144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hlorinated hydrocarb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457200" y="2251080"/>
            <a:ext cx="8229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Chlorinated hydrocarb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re synthetic organic compounds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Verdana"/>
              </a:rPr>
              <a:t>Dioxi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inly caused by burning PVC pipe (medical wast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inked to cancer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lso an endocrine disrupt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1066680" y="2286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ove Canal, N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4520" y="1828800"/>
            <a:ext cx="814860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government allowed housing to be build over the toxic waste dump and people got si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blem first discovered in 1978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st national emergency in the US because of toxic was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d to the superfund legislatio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Superfund sit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$ comes from taxes on chemical industr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0% of the $ spent on  legal cos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6" descr="image_1"/>
          <p:cNvPicPr/>
          <p:nvPr/>
        </p:nvPicPr>
        <p:blipFill>
          <a:blip r:embed="rId1"/>
          <a:stretch/>
        </p:blipFill>
        <p:spPr>
          <a:xfrm>
            <a:off x="5562720" y="5029200"/>
            <a:ext cx="281916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Layers of the Atmosphe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685800" y="2743200"/>
            <a:ext cx="39625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op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Trop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atosph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 Strat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s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-------- Mesopaus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mosphe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6" descr="atmosphe"/>
          <p:cNvPicPr/>
          <p:nvPr/>
        </p:nvPicPr>
        <p:blipFill>
          <a:blip r:embed="rId1"/>
          <a:stretch/>
        </p:blipFill>
        <p:spPr>
          <a:xfrm>
            <a:off x="4343400" y="2286000"/>
            <a:ext cx="457200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omposition of the tropospher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2057400" y="164628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8% 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%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2%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vapor (.01%-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on gas (1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0.04%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 g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Global warm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762120" y="3124080"/>
            <a:ext cx="8229600" cy="3048120"/>
          </a:xfrm>
          <a:prstGeom prst="rect">
            <a:avLst/>
          </a:prstGeom>
          <a:gradFill rotWithShape="0">
            <a:gsLst>
              <a:gs pos="0">
                <a:srgbClr val="cc0c07">
                  <a:alpha val="34117"/>
                </a:srgbClr>
              </a:gs>
              <a:gs pos="100000">
                <a:srgbClr val="f5cecd">
                  <a:alpha val="1333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Global warming occurs when humans contribute too much of these greenhouse gases leading to a small (1-3 degree C) but significant rise in the global average temperatur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nalogy – Car on a sunny da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1219320" y="1370160"/>
            <a:ext cx="7543800" cy="1373760"/>
          </a:xfrm>
          <a:prstGeom prst="rect">
            <a:avLst/>
          </a:prstGeom>
          <a:solidFill>
            <a:srgbClr val="b1e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nhouse effect is natural and important to deep the earth warm enough for life to ex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4"/>
          <p:cNvSpPr/>
          <p:nvPr/>
        </p:nvSpPr>
        <p:spPr>
          <a:xfrm>
            <a:off x="3276720" y="152280"/>
            <a:ext cx="4572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zone (O</a:t>
            </a:r>
            <a:r>
              <a:rPr b="0" lang="en-US" sz="3600" spc="-1" strike="noStrike" baseline="-25000">
                <a:solidFill>
                  <a:srgbClr val="006666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609480" y="3276720"/>
            <a:ext cx="8077320" cy="304776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tratospheric ozone is GO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t shields us from the harmful UVB rays of the su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zone depletion is the thinning of the stratospheric ozone shield (mostly over the South Pole, Australia story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alogy – Stratospheric 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is like sunscreen for the earth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1219320" y="1208160"/>
            <a:ext cx="7391160" cy="137376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f8f1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ospheric ozone is B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breath it, it causes lung da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a greenhouse g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ir pollutio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pensive: health care costs, human liv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cute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Chroni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Carcinogenic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mages buildings, bridges, statues, boo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esthet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amage to Pla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Agriculture – crops loss ~$5 billion/ye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 Fores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7" name="Picture 4" descr="starr_020813_0004_tibouchina_urvilleana"/>
          <p:cNvPicPr/>
          <p:nvPr/>
        </p:nvPicPr>
        <p:blipFill>
          <a:blip r:embed="rId1"/>
          <a:stretch/>
        </p:blipFill>
        <p:spPr>
          <a:xfrm>
            <a:off x="2819520" y="4327560"/>
            <a:ext cx="3504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Ravie"/>
              </a:rPr>
              <a:t>Acids and B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1898280"/>
            <a:ext cx="717408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H-log of hydrogen ions in a solution. Therefore each number higher on the pH scale is 10X more basic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asic- OH- (hydroxyl ions) over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idic-H+ ions under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utral- pure water  is 7 on the pH sca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rmal rain is slightly acidic-pH 6.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cid rain is defined as less than a pH of 5.5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Indoor Air Pollut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. Types: benzene, formaldehyde, radon, cigarette smok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. Sources: off gassing from furniture, rugs and building materials, dry cleaning, cleaning fluids, disinfectants, pesticides, hea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. Buildings with too many indoor air pollutants are called “sick buildings” because more than 20% of the people are sick due to occupying the buildin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Picture 5" descr="Pollutants"/>
          <p:cNvPicPr/>
          <p:nvPr/>
        </p:nvPicPr>
        <p:blipFill>
          <a:blip r:embed="rId1"/>
          <a:stretch/>
        </p:blipFill>
        <p:spPr>
          <a:xfrm>
            <a:off x="5562720" y="1828800"/>
            <a:ext cx="3457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Ravie"/>
              </a:rPr>
              <a:t>Major Outdoor Air Pollutants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imary – direct products of combustion and evapo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ary – when primary pollutants undergo further reactions in atmosph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spended particulate matter (prim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olatile Organic Compounds (second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rbon Monoxide (prim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itrogen Oxides (can be both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ulfur Oxides(primary from combustion of coal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zone and other photochemical oxidants (secondar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3" descr="carbon-monoxide-black-150"/>
          <p:cNvPicPr/>
          <p:nvPr/>
        </p:nvPicPr>
        <p:blipFill>
          <a:blip r:embed="rId1"/>
          <a:stretch/>
        </p:blipFill>
        <p:spPr>
          <a:xfrm>
            <a:off x="7162920" y="152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eri</dc:creator>
  <dc:description/>
  <dc:language>en-US</dc:language>
  <cp:lastModifiedBy>Teri Osborne</cp:lastModifiedBy>
  <dcterms:modified xsi:type="dcterms:W3CDTF">2012-04-23T05:54:01Z</dcterms:modified>
  <cp:revision>48</cp:revision>
  <dc:subject/>
  <dc:title>PowerPoint Presentation</dc:title>
</cp:coreProperties>
</file>